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8765-AA9C-44EC-AC93-EFFF7AC22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26B1-6070-436E-81F7-416E91786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F9BD-3097-4821-9BCD-A0842EB64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E4F5-1850-42FF-81C8-F819AE296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7D80-41E7-4355-A301-74DD0BCBE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1376-DD1A-4A45-B320-130A421F4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55FB-EA07-46C7-A7C3-E3C31401E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FB13-580A-4229-A222-8F424F4B7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7163-559F-4220-8D57-226AD1116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A7DF-65E2-43D4-9388-BDA39E105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11E6-9277-4EDE-AF2C-72DA9D00E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D473-AFF4-4766-917D-8E198C8DE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5374-3D22-4AD0-B570-088A38D17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E3BE-6D23-42D8-88C8-5A7483FB5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0188-13C8-47E8-98E3-DCB8AEB18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7D30-993A-4B8C-A8B5-E36ECBB57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9F55-3567-4EFE-9077-4B6460D73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892CB-766B-4D3E-969E-3F0AAE66C9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1F97F-D17B-4925-83B6-D21F2C00F6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E24C2-F181-458F-A0E0-C7E18FA0CC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08DC6-2A1F-4B28-903F-970D28216F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730DE-53F5-4575-8225-F1962DBD31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6D546-DAC0-47B3-B431-6C263719F5F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61AAA-921D-4140-ACC2-2C7CA3BE36B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FF3AC-4DC1-4420-9A9F-423AE8C131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8B70D-0525-4953-BF10-F9D225F9F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5267E-374D-477F-94F3-D3BA28E528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58BAD-2CD3-45DC-9B2E-FF231B05D5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D1ACB-6D1B-41C1-BA0E-3CB326D3B3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3657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9520" y="2361960"/>
            <a:ext cx="4419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-160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537120" indent="-107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752040" indent="-107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28AF-6390-480C-933E-B5DCF3C8B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6" descr="Tempalte slide2.jpg"/>
          <p:cNvPicPr/>
          <p:nvPr/>
        </p:nvPicPr>
        <p:blipFill>
          <a:blip r:embed="rId2"/>
          <a:stretch/>
        </p:blipFill>
        <p:spPr>
          <a:xfrm>
            <a:off x="-4680" y="0"/>
            <a:ext cx="91533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Tempalte slide3.jp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Tempalte slidecdr 04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Tempalte slide3.jp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3"/>
          <a:stretch/>
        </p:blipFill>
        <p:spPr>
          <a:xfrm>
            <a:off x="0" y="6076800"/>
            <a:ext cx="1581120" cy="6289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ÒNG 1 - BẢNG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ại học Giao thông Vân tải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ại học Xây dựng Hà Nộ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ại học Công nghệ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80520" y="837720"/>
            <a:ext cx="85345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ại KeyLogger nào tránh được sự phát hiệ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ủa các phần mềm Anti-Vi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KeyLogg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 KeyLo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alth KeyLo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ect KeyLo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80520" y="837720"/>
            <a:ext cx="85345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ểu tấn công nào sau đây không phải kiể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ấn công từ chối dịch v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ử dụng Bot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ng of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ử dụng Fl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-In-The-Midd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0520" y="837720"/>
            <a:ext cx="85345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áy chủ chạy hệ điều hành Windows 2003 b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ẻ lạ tạo tài khoản có quyền quản trị và đă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ập qua remote desktop. Dấu vết của s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ện này có thể được phát hiện thông qu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 Vie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 của FTP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 của SQL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 của Web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80520" y="837720"/>
            <a:ext cx="85345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hi một website tồn tại lỗ hổng SQL Injec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uy cơ cao nhất có thể xảy ra l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ấn công thay đổi hình ảnh giao diệ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óa toàn bộ cơ sở dữ liệ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ất username/password của quản tr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y chủ bị chiếm quyền điều khiể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80520" y="837720"/>
            <a:ext cx="85345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âu là mục tiêu chủ yếu của kiểu tấn cô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Enginee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 ngườ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er to Peer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520" y="837720"/>
            <a:ext cx="85345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ổng nào sau đây không liên quan tới dịch v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80520" y="837720"/>
            <a:ext cx="85345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Đặc trưng của các Trojan l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ỉ hoạt động trên hệ điều hành 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ông có khả năng tự lây 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ự động phát tán qua 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ự động phát tán qua lỗ hổng phần mề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0520" y="837720"/>
            <a:ext cx="85345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ững điểm yếu an ninh có thể có ở hệ thố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ường truyền (cáp đồng, cáp quang,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ính sách an ninh (quy đinh, quy trình vận hành,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ết bị mạng (Firewall, Router,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ất c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0520" y="837720"/>
            <a:ext cx="85345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ỹ thuật chia VLAN có tác dụng như thế n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ối với an ninh m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ạn chế nghe trộ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ó thể áp dụng các luật điều khiển truy cập lên từng nhóm ngườ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ả A và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ăng tốc độ đường truy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80520" y="837720"/>
            <a:ext cx="85345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iều gì xảy ra khi máy X sử dụng kĩ thuậ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P Spoofing để nghe lén thông tin từ máy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giả mạo địa chỉ MAC của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giả mạo địa chỉ IP của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giả mạo địa chỉ MAC của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giả mạo địa chỉ IP của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80520" y="837720"/>
            <a:ext cx="85345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ể phát hiện một máy tính có đang bị tấ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ông, điều khiển từ xa hay không, người ta c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ể dùng những cách n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ểm tra kết nối trên máy tí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ét cổ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ân tích dữ liệu mạ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ả 3 đáp 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80520" y="837720"/>
            <a:ext cx="85345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us máy tính là gì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Phần mềm do lỗ hổng của website tạo 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Phần mềm do lỗ hổng của window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ạo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Phần mềm do con người viết ra nhằm phục vụ cho các mục đích phá ho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ần mềm được tạo ra ngoài ý muốn do lỗi lập trình của người viế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0520" y="837720"/>
            <a:ext cx="85345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ện pháp nào sao đây được sử dụng t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fi để kiểm soát việc truy cập theo từng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ạng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 Fil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ỏ broadcast SS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80520" y="837720"/>
            <a:ext cx="85345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 nghị định 63/2007/NĐ-CP,  hacker thự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ện hành vi phá hoại hệ thống mạng máy tí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ó thể chịu mức phạt cao nhất l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triệu đồ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triệu đồ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 triệu đồ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triệu đồ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520" y="837720"/>
            <a:ext cx="85345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ể  kiểm tra và tự động cập nhật các bản 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ủa Microsoft cho các máy tính trong mạ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úng ta phải sử dụng phần mềm n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 Baseline Security Analy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ina Network Security Sc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nia Personal Software Insp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 Server Update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1:43:17Z</dcterms:created>
  <dc:creator>HangDTT</dc:creator>
  <dc:description/>
  <dc:language>en-US</dc:language>
  <cp:lastModifiedBy> </cp:lastModifiedBy>
  <dcterms:modified xsi:type="dcterms:W3CDTF">2008-11-21T04:29:29Z</dcterms:modified>
  <cp:revision>40</cp:revision>
  <dc:subject/>
  <dc:title>Slide 1</dc:title>
</cp:coreProperties>
</file>