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3315-C84C-4B85-9D3F-AF40A884D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07E7-46BD-46E9-B12A-7260AC6F1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FE7B-D1D3-4DA0-9851-9F1EB25C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B36-1324-4D58-8A75-EF813EC7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464C-5335-4164-8633-DA6B021A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FD9C-9A99-4B97-9574-545B303D3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A2BC-595E-4A0F-8043-B8DD524DA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27E6-6E92-4975-9C12-1BD26E2B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EA7B-324A-413C-B3DF-DBF32F44E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0889-E34F-43EE-B36B-C58BFB18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817-CD3E-40A9-B195-486DB1A07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C28D-E491-4FC7-A155-A95A395F0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3AF8-A3F2-4A9F-A295-D1066D914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F163-EAC4-49AF-8083-44BA623BC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499-9AF2-48E6-9914-5847707E4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4A00-0E2D-429D-82D6-E77F48D3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FD76-CDBB-49F0-B473-CAE54D715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70E2-516C-4201-B404-0107B359F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B52B-3A57-46FD-95CA-C5BB34A69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4DDE-F966-4516-BAA9-127A4673E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A44F-95DC-4CDE-8D86-FF31F9B42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97EF-F943-422B-9383-952D03DA9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E611-A642-45DB-AFB5-4AADE157D8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7659-1576-472B-A18F-F5198E1C90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4285-A3AB-49D1-A199-D044878F2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D240-4CC9-4813-9474-552DDB60E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202F-287F-4753-9DB3-BD7A2145D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F756-30C8-48E4-840F-CF7CD3629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1F29-47FC-48F0-A7AE-1365264B1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23619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9D0E-CD74-46B2-A1D5-C89BD08B0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Tempalte slide2.jpg"/>
          <p:cNvPicPr/>
          <p:nvPr/>
        </p:nvPicPr>
        <p:blipFill>
          <a:blip r:embed="rId2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Tempalte slidecdr 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0" y="6076800"/>
            <a:ext cx="1581120" cy="628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ÒNG 1 - BẢNG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ện Đại học M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ọc viện Kỹ thuật Quân sự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ại học Công nghệ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05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Attack là kiểu tấn cô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ểm soát 1 website từ đó kiểm soát các website khác trên máy ch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n công trong mạng nội b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In The Middle trong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 Sp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ạn cho biết chức năng của hệ thố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Pot là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lập các hệ thống/dịch vụ thật để đánh lừa H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n công vào hệ thống của H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ăn chặn tấn công của H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át hiện và ngăn chặn tấn công của H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5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ng mô hình PKI, để xác nhận mình l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ười gửi thông tin, người gửi sẽ sử dụ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óa n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ột thông điệp như sau được gửi đi “ABC”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ên nhận nhận được thông điệp có nội d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à “ABC123”, quá trình truyền thông tin đã bị c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ệp ở giữa. Tính chất nào sau đây đã bị ản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ưởng sau quá trình truyền tin nà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ính bí mậ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ính sẵn sà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ính toàn vẹ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ính bí mật và tính toàn vẹ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ột firewall sử dụng công nghệ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ử dụng các thông tin nào để k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át truy cậ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nguồn và cổng ngu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đích và cổng đ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đích  và cổng ngu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nguồn và IP đích, cổng nguồn và cổng đ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c giao thức nào sau đây được sử dụ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ng VP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TP, PPTP, IP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LS, FTP, IP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TP, PPTP,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, L2F, IP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5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ặc trưng của các Trojan l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ỉ hoạt động trên hệ điều hành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ông có khả năng tự lây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ự động phát tán qua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ự động phát tán qua lỗ hổng phần m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520" y="91404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y nào sau đây được spyware, adware thường sử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ụng nhất để hiện icon “nhấp nháy” dưới góc phải mà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ình (thanh taskbar) với cảnh báo giả: “Your comput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infected”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\Software\Microsoft\Windows\CurrentVersion\Explorer\ ShellExecuteH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\Software\Microsoft\Internet Explorer\UrlSearchH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\Software \Microsoft\Windows\CurrentVersion\ Explorer\SharedTaskSchedu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\Software \Microsoft\Windows\CurrentVersion\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ao thức nào dưới đây, tồn tại lỗ hổng khiế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ệ thống có thể bị lợi dụng để nghe lé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ệc ghi lại các log, phục vụ cho mục đị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ản lý, rà soát lại hệ thống nằm trong phầ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ào của AA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Proxy nào có thể che dấu hoàn to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ông tin IP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5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nào sau đây không đúng khi nói về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ổng 0-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lỗ hổng nhà sản xuất chưa kịp 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lỗ hổng phá hoại hệ thống trong vòng một ngà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lỗ hổng hacker chưa công bố rộng rã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lỗ hổng nguy hiểm khi tấn công vào hệ thống chưa có giải pháp bảo v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762120"/>
            <a:ext cx="8991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Ảnh dưới đây thể hiện mục đích gì của h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 thập thông tin về Web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ở một backdoor trên hệ th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n công SQL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ông phải những điều tr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5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ộ luật Hình sự hiện nay có những điều n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y định về chống tội phạm công nghệ c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4, 225, 2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4, 252, 2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2, 425, 4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2, 252, 2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762120"/>
            <a:ext cx="8991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oạn mã dưới đây khai thác lỗ hổng g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he l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54864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1:43:17Z</dcterms:created>
  <dc:creator>HangDTT</dc:creator>
  <dc:description/>
  <dc:language>en-US</dc:language>
  <cp:lastModifiedBy> </cp:lastModifiedBy>
  <dcterms:modified xsi:type="dcterms:W3CDTF">2008-11-21T04:16:06Z</dcterms:modified>
  <cp:revision>47</cp:revision>
  <dc:subject/>
  <dc:title>Slide 1</dc:title>
</cp:coreProperties>
</file>