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5DB4-D454-422D-9EB5-7F03BEB3F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50C-DAFB-4CCB-BEEE-9049D620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A51-7618-4FAD-90C9-7454C4C9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7C7-2F74-40B7-980B-81D08416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89A-FA53-4606-B95A-8ED71532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CD4-3765-47D2-BD4B-094C1D3F9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0AED-80C5-4F97-AC3D-F5438682F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9BC5-5570-429E-A3F1-CC9536446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487E-1A45-468B-BABE-61463F8C5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459-18C9-47E2-9680-0F039D20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5BD9-9072-49D7-BE5F-0D77A170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7ECF-B3E9-4494-BCBA-9A3EFD53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EAC7-DA8C-4221-B400-6233112D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68A9-BDBA-470C-9B7E-0DF6D746D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15DF-93C2-4A0D-919D-F6DAF408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A8E-79B2-4993-9F60-E65DF3F0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9072-81E7-4862-9E1F-57077F08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9204-98B2-46CB-B0C0-4CFDC27A3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5CFF-00D2-4BBC-A094-D56DDF2FB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B4BD-856F-4FC6-9E38-95F33EC45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54A-C0ED-4C15-8B0D-FBA603604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18EF-EFCC-411E-A940-8EA7FF8BF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B855-8055-4306-8D54-4F0EB1C959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2B2D-DCB6-4D72-88E0-1438A9C2E2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602A-04AE-479A-8BCE-DF344EFA7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2054-624C-4980-8DAE-902BC40ED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D93B-0DD3-43FE-9B77-D614AF787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363A-7389-4A9F-AF16-77039C404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9038-D83D-478F-8910-9606C6FFD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23619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52040" indent="-10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66960" indent="-107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6919-97F5-4394-BC1A-F2043BC9D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Tempalte slide2.jpg"/>
          <p:cNvPicPr/>
          <p:nvPr/>
        </p:nvPicPr>
        <p:blipFill>
          <a:blip r:embed="rId2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Tempalte slidecdr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empalte slide3.jp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0" y="6076800"/>
            <a:ext cx="1581120" cy="62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ÒNG 1 - BẢ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Giao thông Vận tải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ọc viện Kỹ thuật Mật m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ại học Bách Khoa Hà N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quan bạn có thêm một chi nhánh mớ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ể kết nối chi nhánh mới vào mạng t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âm với chi phí hợp lý và đảm bảo an toà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ạn sử dụng công nghệ nà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N qua A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H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ình thức tấn công nào sau đây không th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át hiện bới thiết bị ID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tection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(Denial of Ser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ai thác các lỗ hổng phần m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ofed e-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ện pháp nào sau đây được dùng để đả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o an ninh cho mạng Wi-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nào dưới đây có thể bị hacker sử dụng để tấn công Man In The Midd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ter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Win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thuật băm nào cho giá trị băm 16 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3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ảy ra khi một chuỗi dữ liệu được gử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ới một vùng đệm mà có kích thước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ơn khả năng được thiết kế ra của vù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Brut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ấn công Man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Syn F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phần mềm độc hại nào sau đây kh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 cơ chế tự động lây 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 Ma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Tro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ột kiểu tấn công DoS sử dụng cơ chế bắ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y ba bước (three-way handshake)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là (chọn 1)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 F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u là kiểu xác thực được dùng phổ biế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ọn 1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ật kh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 trắc h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ột phương pháp tấn công sử dụng IC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MTU (Maximum Transmission Unit) đ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àm đổ vỡ hệ thống được gọi là kiểu tấ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m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 F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ái niệm nào dưới đây không phải là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ĩ thuật quét cổ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lnerability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Bou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ệ thống kiểm soát truy cập giữa các vù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Lay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Server nên được đặt ở vùng m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-Militerized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ệ thống IDS phát hiện dấu hiệu tấn c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ựa v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nguồn được định nghĩa trướ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đích được định nghĩa trướ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nguồn và IP đ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âu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ột quản trị thực hiện câu lệnh sau tại cơ qua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lookup mail.abc.com.v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ết quả trả ra là : 172.31.5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hi anh ta thực hiện lệnh này ở ngoài cơ quan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ết quả trả ra là 203.162.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ỹ thuật nào đã được sử dụng tại hệ thống mạ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ủa cơ quan anh ta: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1:43:17Z</dcterms:created>
  <dc:creator>HangDTT</dc:creator>
  <dc:description/>
  <dc:language>en-US</dc:language>
  <cp:lastModifiedBy> </cp:lastModifiedBy>
  <dcterms:modified xsi:type="dcterms:W3CDTF">2008-11-21T04:03:17Z</dcterms:modified>
  <cp:revision>49</cp:revision>
  <dc:subject/>
  <dc:title>Slide 1</dc:title>
</cp:coreProperties>
</file>