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C2AF-DCD1-4264-985A-27B79CA37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763D-3806-45F5-9297-F989CBF0A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26EA-11EF-4029-B3AC-31206033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6F56-629A-4C8D-93A2-8530DD26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DFF5-B084-4858-9A77-AC83D969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EC40-2229-4748-9F45-5103695C1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3AD8-6105-4456-A0D4-B262793F5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9D2C-3325-4A69-902A-FF3E28F40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BB47-8B7B-4793-97EA-D9824E3FC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12A5-8C41-46E4-9822-BFBBB225B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3467-DAEC-498B-A5BD-CAEF937D5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9532-F59C-4E84-912D-DFC8119B5E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ABB8-F559-405D-9B02-380D69BA97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71F1-0271-47C6-BE67-D388B6427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2805-5614-49E4-A557-2CFB36588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8106-4212-49E0-B049-54C5A780E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7145-4013-486A-B444-DB016E59E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164D-6F07-4081-804A-B39CABA1B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23619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5A26-7DA3-4AAB-8CD7-DEC099621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Tempalte slide2.jpg"/>
          <p:cNvPicPr/>
          <p:nvPr/>
        </p:nvPicPr>
        <p:blipFill>
          <a:blip r:embed="rId2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Tempalte slidecdr 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0" y="6076800"/>
            <a:ext cx="1581120" cy="628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login.yahoo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ÒNG 2 – Câu hỏi ph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ủ đ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Ứng dụng của Mã ho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i truy cập web 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ogin.yahoo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ó sử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, bạn nhận được cảnh báo như sa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380880" y="52578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ạn hãy cho biết tại sao lại xuất hiện cảnh báo này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2"/>
          <a:stretch/>
        </p:blipFill>
        <p:spPr>
          <a:xfrm>
            <a:off x="1981080" y="1300320"/>
            <a:ext cx="487692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ủ đề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ông cụ an ni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ây là giao diện của phần mềm Ophcrack. Hãy cho b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ần mềm này có chức năng gì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1:43:17Z</dcterms:created>
  <dc:creator>HangDTT</dc:creator>
  <dc:description/>
  <dc:language>en-US</dc:language>
  <cp:lastModifiedBy> </cp:lastModifiedBy>
  <dcterms:modified xsi:type="dcterms:W3CDTF">2008-11-21T05:28:26Z</dcterms:modified>
  <cp:revision>73</cp:revision>
  <dc:subject/>
  <dc:title>Slide 1</dc:title>
</cp:coreProperties>
</file>