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1A6A-D3C8-4361-88DF-3CA83759B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2438-0551-46F1-B4BC-4BDD80158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F2E1-F7A0-478A-89A6-987DA1AA4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5579-5D85-456A-BAE7-10AE7A147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606A-ECA5-47D2-9993-4B40F7690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E339-5492-4578-AA0E-860CAB322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FB05-CAA1-4702-8293-2EA338E93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09C9-A9E6-4B41-82B5-95D82DAE4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CE1D-4405-40ED-A44D-038145B69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CC4A-148B-4B52-ABC5-983ABEE7E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E6B9-335F-4B86-A0EE-94C850B93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D283-F377-48C5-8937-E83BEF10B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4267-8724-483F-AF21-806BE2371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9B81-633E-416D-89D9-1851C4F3B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9069-5BB1-4242-984B-8A16EF26B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30D2-12F2-440C-BA09-B3928B114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1592-5634-484E-8966-D802E7620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7296B-95EC-4250-A0D6-F77C0E248C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B682C-5C1F-4625-B13B-94181E3472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E4587-81C0-4757-AD7D-D4129D88CB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AE327-D2EC-4D35-AE32-8BF55ECA4E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5AF24-8FE5-43A9-9932-CF09DC673A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6DDAA-8A53-496F-BD35-AD55B8B117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69C1F-8525-4E38-A784-1A60FED0BD0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46350-D7C9-4916-9A20-C10ADAB072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987FB-13BF-43E3-85D4-3B4BAF67AD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D0EAF-ECCB-4815-AFAD-8A8006E3C5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BD734-7525-43A2-82C7-F3C99568D0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B1054-FDA8-4989-ADD5-E9F4EE4B91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3657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9520" y="2361960"/>
            <a:ext cx="4419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-160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537120" indent="-107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752040" indent="-107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E873-1DAC-4FF0-B835-6442A2DE9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6" descr="Tempalte slide2.jpg"/>
          <p:cNvPicPr/>
          <p:nvPr/>
        </p:nvPicPr>
        <p:blipFill>
          <a:blip r:embed="rId2"/>
          <a:stretch/>
        </p:blipFill>
        <p:spPr>
          <a:xfrm>
            <a:off x="-4680" y="0"/>
            <a:ext cx="91533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Tempalte slide3.jp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Tempalte slidecdr 04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Tempalte slide3.jp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3"/>
          <a:stretch/>
        </p:blipFill>
        <p:spPr>
          <a:xfrm>
            <a:off x="0" y="6076800"/>
            <a:ext cx="1581120" cy="6289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ÒNG 1 - BẢNG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ại học Công nghiệp Hà Nộ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ọc viện Kỹ thuật Quân sự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ại học Dân lập Đông Đ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ng các tiêu chuẩn dưới đây, bạn cho biết đâu là tiê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ẩn về quản lý an ninh thông t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 17799: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 27001: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 9001: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VN 7562: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ác công cụ nào dưới đây có thể dùng để xác định các kế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ối mạng đang có trên máy tí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st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conf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Trac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ải thuật nào là giải thuật mã hóa công khai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ân tích dữ liệu luân chuyển trên mạng không được s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ụng đ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ưu trữ dữ liệ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át hiện các sự cố về mạ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ìm hiểu các giao thức mạ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Báo cáo, thống kê về trạng thái của mạ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ông cụ nào cho phép theo dõi các kết nối trong thời g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ực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st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Etterc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hững loại malware nào dưới đây không thể diệt tạ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ời bằng cách thủ công (dùng regedit, task manager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us lây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y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Backd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ạn đi công tác, kết nối VPN về cơ quan để làm việc, kiể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ết nối này gọi l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net V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PN remot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PN site to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anet V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ười dùng đặt mật khẩu của họ sử dụ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ững từ có đơn giản và dễ đoán như tê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ủa một con vật, ngày sinh, …là mục tiê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ủa kiểu tấn công nào sau đâ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ấn công kiểu từ điể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ấn công Brute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ấn công giả mạ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 Man in the mid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ao thức nào được dùng để mã hóa d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ệu trao đổi giữa Web Browser và We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 VP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he lén có thể được sử dụng để lấy thô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 về username và password dạng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ở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H (Secure She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L (Secure Sockets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P (File Transfer Protoc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 HTTPS (Hypertext Transfer Protocol qua SS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ột quản trị mạng mới thay thế hub bằng switch. K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ử dụng phần mềm Sniffer bắt các gói tin trên mạ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gười quản trị thấy được dữ liệu trao đổi giữa máy tí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ủa anh ta và máy chủ, nhưng không thấy được cá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o đổi giữa những máy khác trong mạng với máy chủ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i như switch hoạt động tốt, điều gì đã tạo ra hiệ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ượng trê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ừ thông tin broadcast, switch không gửi thông tin ra tất cả các cổ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ch được cấu hình V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ần mềm Sniffer cấu hình sa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. Phần mềm Sniffer không bắt được thông tin qua cổng Eth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ột cách để hạn chế khả năng nghe lén trên mạ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ử dụng Wi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ử dụng H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ân chia 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Sử dụng tường lửa cá nhâ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y chủ web của một công ty được cấu hình những dị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ụ sau: HTTP, SSL, FTP, SMTP. Máy chủ này được đặ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ng vùng DMZ. Đâu là những cổng cần phải mở trê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ường lửa để cho phép các máy trạm có thể sử dụng dị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ụ trên máy nà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9, 23, 21, 80,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434, 21, 80, 25,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, 20, 21, 25, 4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110, 443, 21, 59,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ệ thống máy chủ web bị tấn công, hacker có thể kiể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át tất cả các website trên máy chủ đó. Nguyên nhân c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ệc này có thể 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gười lập trình không cẩn thận, để website tồn tại nhiều lỗ hổ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gười quản trị máy chủ cấu hình không tố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ả A, B,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Sơ hở của người dùng khi đặt mật khẩu truy cập yế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cker phát tán virus và điều khiển các máy tính bị nhiễ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us tấn công một hệ thống máy chủ. Đây là kiểu tấn cô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ừ chối dịch vụ gì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ấn công sử dụng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ấn công sử dụng Bot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ấn công sử dụng SYN FL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Tấn công sử dụng Reply của DNS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1:43:17Z</dcterms:created>
  <dc:creator>HangDTT</dc:creator>
  <dc:description/>
  <dc:language>en-US</dc:language>
  <cp:lastModifiedBy> </cp:lastModifiedBy>
  <dcterms:modified xsi:type="dcterms:W3CDTF">2008-11-21T04:12:27Z</dcterms:modified>
  <cp:revision>50</cp:revision>
  <dc:subject/>
  <dc:title>Slide 1</dc:title>
</cp:coreProperties>
</file>