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FBDF-BBF8-423C-A5CC-080BFD9BB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6C95-D7FD-463B-A514-6EBECF84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ECEE-FB8C-4C7F-9A48-0DEAEB04B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5128-6817-4033-92B8-CF148592F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9437-8D34-40FA-8DBB-1B857E287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67D5-BDCC-4BF6-A4B1-E3D72FD2D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09E7-3B3E-406F-93B0-9641BECF3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73FE-58F4-41F5-AD5D-D4DEA35B4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71EC-DBC8-47CA-AD57-FD2E91C60E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B99B-4686-4BE9-A7A7-08C3AC0F11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99E9-359F-42F7-98CE-BF19D1FCC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D667-0DF2-419B-9430-74DBA7419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B180-36EF-476B-AF7D-357F01F20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4D8E-8F4C-44FF-B830-C039365B0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D7F7-D79B-412F-BFAB-C673D96C8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19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3014-3711-42A5-BE36-33C8FDCB6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Tempalte slide2.jpg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Tempalte slidecdr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0" y="6076800"/>
            <a:ext cx="15811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ÒNG 3: Xác định lỗ hổ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ỉ ra các lỗ hổng và sửa chữa các lỗ hổng (nếu có yêu cầu) trên hệ thống mạng s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"/>
          <p:cNvGraphicFramePr/>
          <p:nvPr/>
        </p:nvGraphicFramePr>
        <p:xfrm>
          <a:off x="380880" y="2438280"/>
          <a:ext cx="84693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4693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1:43:17Z</dcterms:created>
  <dc:creator>HangDTT</dc:creator>
  <dc:description/>
  <dc:language>en-US</dc:language>
  <cp:lastModifiedBy> </cp:lastModifiedBy>
  <dcterms:modified xsi:type="dcterms:W3CDTF">2008-11-21T05:32:51Z</dcterms:modified>
  <cp:revision>68</cp:revision>
  <dc:subject/>
  <dc:title>Slide 1</dc:title>
</cp:coreProperties>
</file>