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231-4EAB-417F-8D7C-49D09444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DBB9-5116-4C26-9C6C-0A549D1C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A77-72E6-4885-9993-63CBC300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50C-6487-43FC-8763-76DF7698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57A-2B39-459A-B874-1E7164B2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5D2-F467-4982-B2D0-2B865BEA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968-25CD-44AE-820E-773147F2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08C-3121-41C5-8457-1897C7C93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3CB-B062-4D9C-BCE2-B1CE87A4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096-F917-4A18-8B63-FB8C546C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8944-F300-4E36-93C0-470502E30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996-BFB3-4480-BCCD-ECD73474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F6B6-1AAE-4856-BC9C-A4448A5B7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85BC-FE75-4BB3-9ED0-4AC222270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48CA-D17D-4DAA-A372-6CB45A522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A015-DF48-4EB6-A00D-54C776129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1538-FF29-493E-B83A-E210D7D49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6703-5431-4407-94D3-D8E8D83D65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20B1-4CB4-4425-8CBC-9E778D8794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57CD-B106-4F48-AE51-B304C065A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2E38-9A48-47E1-AC60-E4C9493C3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A23-8EB8-4A41-BB3C-EA406EABE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16DD-2F21-4DCF-AAEB-C499CD30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D80C-C00F-486B-BB89-D62BB7AB2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FBBB-7D04-454F-A714-C38C4F6C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Các hình thức tấn công mạng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ãy giải thích đây là dấu hiệu của kiểu tấn công nà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10078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irus máy tính và các đoạn mã độc h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ng khi thực hiện phân tích một loại virus, các chuy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 đã phát hiện được đoạn code sau.  Bạn hãy mô tả v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ộc tấn công mà đoạn code này thực hiện (thời gian, mụ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êu, cách thứ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2485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ỗ hổng an ninh (giao thức m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3808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ác máy tính trong văn phòng bạn gặp hiệ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ượng lạ: Tất cả các máy trong mạng k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y cập web đều bị chèn các banner l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ếng Trung Quốc. Hiện tượng này do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ả gateway gây 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767700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vnisa vong 2.jpg"/>
          <p:cNvPicPr/>
          <p:nvPr/>
        </p:nvPicPr>
        <p:blipFill>
          <a:blip r:embed="rId2"/>
          <a:stretch/>
        </p:blipFill>
        <p:spPr>
          <a:xfrm>
            <a:off x="5562720" y="304920"/>
            <a:ext cx="3062160" cy="2133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92400" y="2515320"/>
            <a:ext cx="82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hi thực thi câu lệnh “arp -a” tại một máy trong mạng, ta được kết quả như sa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6760" y="5410800"/>
            <a:ext cx="73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âu hỏ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y tính nào là máy tính thực sự bị nhiễm virus nà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ông cụ an ninh m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âu lệnh sau có tác dụng gì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ap – A –p 25,110 203.162.1.16/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Xây dựng thiết kế hệ thống mạng an ni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ể cho phép người dùng từ xa truy cập tài nguyên ở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, quản trị mạng đã thiết kế sơ đồ như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1447920" y="1219320"/>
          <a:ext cx="6143400" cy="33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614340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Content Placeholder 2"/>
          <p:cNvSpPr/>
          <p:nvPr/>
        </p:nvSpPr>
        <p:spPr>
          <a:xfrm>
            <a:off x="38088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ỉ ra sai sót trong sơ đồ thiết kế sau ?  (Lưu ý router ở đây không cấu hình NAT, chỉ làm chức năng định tuyế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5:23:02Z</dcterms:modified>
  <cp:revision>66</cp:revision>
  <dc:subject/>
  <dc:title>Slide 1</dc:title>
</cp:coreProperties>
</file>